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14C1D-E3C7-4F00-98C7-349154163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F69E4-17A2-4C6B-BE51-E7409BFFA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2A7B8-79B7-4403-BE33-3738188A9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267DF-6F4B-420B-9224-302EA65FC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937B9-7167-41F5-90C9-49FD1DE4A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6764A-2E36-44A6-9D7A-97052F01E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EF982-B913-461E-8077-EECB6301A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16DB8-10FB-4CF2-BCF2-BA5887EC6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15509-0297-46AE-8F91-AEA5D7533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DC8A4-EABB-4D07-AD05-98CD1B2B3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5A662-281C-4F6A-B96C-0C5B6A598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5C0BF-589C-4FF4-9240-F1276F752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F5EE121-35C3-458A-B0EB-71B864D9DA11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17.1:</a:t>
            </a:r>
            <a:br>
              <a:rPr sz="4400"/>
            </a:b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The New Frontier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B. New Frontier Agenda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-60804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du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8040" indent="-60804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dica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8040" indent="-60804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partment of Urban Affai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. Today: Dept. of Housing and Urban Development – increase homeownership, urban development, affordable housing free from discrimin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4. Democratic Congres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. Composed mainly of Southern Democrats who felt his agenda was too expens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800600" y="1828800"/>
            <a:ext cx="2062080" cy="33526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6629400" y="3276720"/>
            <a:ext cx="2290680" cy="335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. Successes and Setback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506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1720" indent="-53172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1101600"/>
                <a:tab algn="l" pos="2016000"/>
                <a:tab algn="l" pos="2930400"/>
                <a:tab algn="l" pos="3844800"/>
                <a:tab algn="l" pos="4759200"/>
                <a:tab algn="l" pos="5673600"/>
                <a:tab algn="l" pos="6588000"/>
                <a:tab algn="l" pos="7502400"/>
                <a:tab algn="l" pos="8416800"/>
                <a:tab algn="l" pos="9331200"/>
                <a:tab algn="l" pos="102456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c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lphaLcPeriod"/>
              <a:tabLst>
                <a:tab algn="l" pos="1101600"/>
                <a:tab algn="l" pos="2016000"/>
                <a:tab algn="l" pos="2930400"/>
                <a:tab algn="l" pos="3844800"/>
                <a:tab algn="l" pos="4759200"/>
                <a:tab algn="l" pos="5673600"/>
                <a:tab algn="l" pos="6588000"/>
                <a:tab algn="l" pos="7502400"/>
                <a:tab algn="l" pos="8416800"/>
                <a:tab algn="l" pos="9331200"/>
                <a:tab algn="l" pos="102456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conom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95280" indent="0">
              <a:spcBef>
                <a:spcPts val="499"/>
              </a:spcBef>
              <a:buNone/>
              <a:tabLst>
                <a:tab algn="l" pos="0"/>
                <a:tab algn="l" pos="1101600"/>
                <a:tab algn="l" pos="2016000"/>
                <a:tab algn="l" pos="2930400"/>
                <a:tab algn="l" pos="3844800"/>
                <a:tab algn="l" pos="4759200"/>
                <a:tab algn="l" pos="5673600"/>
                <a:tab algn="l" pos="6588000"/>
                <a:tab algn="l" pos="7502400"/>
                <a:tab algn="l" pos="8416800"/>
                <a:tab algn="l" pos="9331200"/>
                <a:tab algn="l" pos="1024560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. Created jobs through deficit spending; space progra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295280" indent="0">
              <a:spcBef>
                <a:spcPts val="499"/>
              </a:spcBef>
              <a:buNone/>
              <a:tabLst>
                <a:tab algn="l" pos="0"/>
                <a:tab algn="l" pos="1101600"/>
                <a:tab algn="l" pos="2016000"/>
                <a:tab algn="l" pos="2930400"/>
                <a:tab algn="l" pos="3844800"/>
                <a:tab algn="l" pos="4759200"/>
                <a:tab algn="l" pos="5673600"/>
                <a:tab algn="l" pos="6588000"/>
                <a:tab algn="l" pos="7502400"/>
                <a:tab algn="l" pos="8416800"/>
                <a:tab algn="l" pos="9331200"/>
                <a:tab algn="l" pos="1024560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i. Asked co. to keep prices dow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295280" indent="0">
              <a:spcBef>
                <a:spcPts val="499"/>
              </a:spcBef>
              <a:buNone/>
              <a:tabLst>
                <a:tab algn="l" pos="0"/>
                <a:tab algn="l" pos="1101600"/>
                <a:tab algn="l" pos="2016000"/>
                <a:tab algn="l" pos="2930400"/>
                <a:tab algn="l" pos="3844800"/>
                <a:tab algn="l" pos="4759200"/>
                <a:tab algn="l" pos="5673600"/>
                <a:tab algn="l" pos="6588000"/>
                <a:tab algn="l" pos="7502400"/>
                <a:tab algn="l" pos="8416800"/>
                <a:tab algn="l" pos="9331200"/>
                <a:tab algn="l" pos="1024560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ii. Asked union to not ask for rai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295280" indent="0">
              <a:spcBef>
                <a:spcPts val="499"/>
              </a:spcBef>
              <a:buNone/>
              <a:tabLst>
                <a:tab algn="l" pos="0"/>
                <a:tab algn="l" pos="1101600"/>
                <a:tab algn="l" pos="2016000"/>
                <a:tab algn="l" pos="2930400"/>
                <a:tab algn="l" pos="3844800"/>
                <a:tab algn="l" pos="4759200"/>
                <a:tab algn="l" pos="5673600"/>
                <a:tab algn="l" pos="6588000"/>
                <a:tab algn="l" pos="7502400"/>
                <a:tab algn="l" pos="8416800"/>
                <a:tab algn="l" pos="9331200"/>
                <a:tab algn="l" pos="1024560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v. Increase minimum w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295280" indent="0">
              <a:spcBef>
                <a:spcPts val="499"/>
              </a:spcBef>
              <a:buNone/>
              <a:tabLst>
                <a:tab algn="l" pos="0"/>
                <a:tab algn="l" pos="1101600"/>
                <a:tab algn="l" pos="2016000"/>
                <a:tab algn="l" pos="2930400"/>
                <a:tab algn="l" pos="3844800"/>
                <a:tab algn="l" pos="4759200"/>
                <a:tab algn="l" pos="5673600"/>
                <a:tab algn="l" pos="6588000"/>
                <a:tab algn="l" pos="7502400"/>
                <a:tab algn="l" pos="8416800"/>
                <a:tab algn="l" pos="9331200"/>
                <a:tab algn="l" pos="1024560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. Developing hous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295280" indent="0">
              <a:spcBef>
                <a:spcPts val="499"/>
              </a:spcBef>
              <a:buNone/>
              <a:tabLst>
                <a:tab algn="l" pos="0"/>
                <a:tab algn="l" pos="1101600"/>
                <a:tab algn="l" pos="2016000"/>
                <a:tab algn="l" pos="2930400"/>
                <a:tab algn="l" pos="3844800"/>
                <a:tab algn="l" pos="4759200"/>
                <a:tab algn="l" pos="5673600"/>
                <a:tab algn="l" pos="6588000"/>
                <a:tab algn="l" pos="7502400"/>
                <a:tab algn="l" pos="8416800"/>
                <a:tab algn="l" pos="9331200"/>
                <a:tab algn="l" pos="102456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295280" indent="0">
              <a:spcBef>
                <a:spcPts val="499"/>
              </a:spcBef>
              <a:buNone/>
              <a:tabLst>
                <a:tab algn="l" pos="0"/>
                <a:tab algn="l" pos="1101600"/>
                <a:tab algn="l" pos="2016000"/>
                <a:tab algn="l" pos="2930400"/>
                <a:tab algn="l" pos="3844800"/>
                <a:tab algn="l" pos="4759200"/>
                <a:tab algn="l" pos="5673600"/>
                <a:tab algn="l" pos="6588000"/>
                <a:tab algn="l" pos="7502400"/>
                <a:tab algn="l" pos="8416800"/>
                <a:tab algn="l" pos="9331200"/>
                <a:tab algn="l" pos="102456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 Unicode MS"/>
              </a:rPr>
              <a:t>2. Setbac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 Unicode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 Unicode MS"/>
              </a:rPr>
              <a:t>a. Tax cu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 Unicode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 Unicode MS"/>
              </a:rPr>
              <a:t>b. Health ins for elder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 Unicode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 Unicode MS"/>
              </a:rPr>
              <a:t>c. Federal aid to edu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D. Expanding Women’s Right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1720" indent="-53172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1101600"/>
                <a:tab algn="l" pos="2016000"/>
                <a:tab algn="l" pos="2930400"/>
                <a:tab algn="l" pos="3844800"/>
                <a:tab algn="l" pos="4759200"/>
                <a:tab algn="l" pos="5673600"/>
                <a:tab algn="l" pos="6588000"/>
                <a:tab algn="l" pos="7502400"/>
                <a:tab algn="l" pos="8416800"/>
                <a:tab algn="l" pos="9331200"/>
                <a:tab algn="l" pos="102456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ederal action against gender discri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1720" indent="-53172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1101600"/>
                <a:tab algn="l" pos="2016000"/>
                <a:tab algn="l" pos="2930400"/>
                <a:tab algn="l" pos="3844800"/>
                <a:tab algn="l" pos="4759200"/>
                <a:tab algn="l" pos="5673600"/>
                <a:tab algn="l" pos="6588000"/>
                <a:tab algn="l" pos="7502400"/>
                <a:tab algn="l" pos="8416800"/>
                <a:tab algn="l" pos="9331200"/>
                <a:tab algn="l" pos="102456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qual Pay Act, 196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1720" indent="-53172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1101600"/>
                <a:tab algn="l" pos="2016000"/>
                <a:tab algn="l" pos="2930400"/>
                <a:tab algn="l" pos="3844800"/>
                <a:tab algn="l" pos="4759200"/>
                <a:tab algn="l" pos="5673600"/>
                <a:tab algn="l" pos="6588000"/>
                <a:tab algn="l" pos="7502400"/>
                <a:tab algn="l" pos="8416800"/>
                <a:tab algn="l" pos="9331200"/>
                <a:tab algn="l" pos="102456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sther Peters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101600"/>
                <a:tab algn="l" pos="2016000"/>
                <a:tab algn="l" pos="2930400"/>
                <a:tab algn="l" pos="3844800"/>
                <a:tab algn="l" pos="4759200"/>
                <a:tab algn="l" pos="5673600"/>
                <a:tab algn="l" pos="6588000"/>
                <a:tab algn="l" pos="7502400"/>
                <a:tab algn="l" pos="8416800"/>
                <a:tab algn="l" pos="9331200"/>
                <a:tab algn="l" pos="102456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. Worked with his administ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4724280" y="1809720"/>
            <a:ext cx="4114800" cy="389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E. The Disabled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. Eunice Kennedy Shriv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. Educational and vocational progra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. Construction of mental health cen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4419720" y="2666880"/>
            <a:ext cx="4505040" cy="2503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F. Warren Cour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-60804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e Man, One Vote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8040" indent="0">
              <a:spcBef>
                <a:spcPts val="7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 Reapportionment -  political districts based on popul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8040" indent="0">
              <a:spcBef>
                <a:spcPts val="7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Reynolds v. Sim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(1964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. Current system unconstitution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. Rural areas had more representation than urb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8040" indent="0">
              <a:spcBef>
                <a:spcPts val="7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Warren Court, cont.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. Due Pro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. Every individual has the same rights in a court of la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. Federal Bill of Rights applied at the stat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 Unicode MS"/>
              </a:rPr>
              <a:t>5.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 Unicode MS"/>
              </a:rPr>
              <a:t>Miranda v. Arizo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 Unicode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 Unicode MS"/>
              </a:rPr>
              <a:t>a. Rights read to you at the time you are charged with a cri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 Unicode MS"/>
              </a:rPr>
              <a:t>6.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 Unicode MS"/>
              </a:rPr>
              <a:t>Escobedo v. Illino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 Unicode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 Unicode MS"/>
              </a:rPr>
              <a:t>a. If you ask for an attorney at the time of questioning, one must be made avail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G. Prayer and Privacy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 Public concerned with Catholicis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 Endorsed separation between church and st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 Birth Control allowe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Lesson Objective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 The students will be able to explain the successes and setbacks of Kennedy’s Admi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 The students will be able to discuss what the Warren Court Reforms did for Americ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 The students will be able to explain the differences between Kennedy and Nixon from viewing the debat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A. Election of 1960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6360" indent="-57636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1146240"/>
                <a:tab algn="l" pos="2060640"/>
                <a:tab algn="l" pos="2975040"/>
                <a:tab algn="l" pos="3889440"/>
                <a:tab algn="l" pos="4803840"/>
                <a:tab algn="l" pos="5718240"/>
                <a:tab algn="l" pos="6632640"/>
                <a:tab algn="l" pos="7547040"/>
                <a:tab algn="l" pos="8461440"/>
                <a:tab algn="l" pos="9375840"/>
                <a:tab algn="l" pos="1029024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enned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50760" indent="-493560">
              <a:spcBef>
                <a:spcPts val="601"/>
              </a:spcBef>
              <a:buClr>
                <a:srgbClr val="ffffff"/>
              </a:buClr>
              <a:buFont typeface="Arial"/>
              <a:buAutoNum type="alphaLcPeriod"/>
              <a:tabLst>
                <a:tab algn="l" pos="1146240"/>
                <a:tab algn="l" pos="2060640"/>
                <a:tab algn="l" pos="2975040"/>
                <a:tab algn="l" pos="3889440"/>
                <a:tab algn="l" pos="4803840"/>
                <a:tab algn="l" pos="5718240"/>
                <a:tab algn="l" pos="6632640"/>
                <a:tab algn="l" pos="7547040"/>
                <a:tab algn="l" pos="8461440"/>
                <a:tab algn="l" pos="9375840"/>
                <a:tab algn="l" pos="1029024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mocr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50760" indent="-493560">
              <a:spcBef>
                <a:spcPts val="601"/>
              </a:spcBef>
              <a:buClr>
                <a:srgbClr val="ffffff"/>
              </a:buClr>
              <a:buFont typeface="Arial"/>
              <a:buAutoNum type="alphaLcPeriod"/>
              <a:tabLst>
                <a:tab algn="l" pos="1146240"/>
                <a:tab algn="l" pos="2060640"/>
                <a:tab algn="l" pos="2975040"/>
                <a:tab algn="l" pos="3889440"/>
                <a:tab algn="l" pos="4803840"/>
                <a:tab algn="l" pos="5718240"/>
                <a:tab algn="l" pos="6632640"/>
                <a:tab algn="l" pos="7547040"/>
                <a:tab algn="l" pos="8461440"/>
                <a:tab algn="l" pos="9375840"/>
                <a:tab algn="l" pos="1029024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3 years ol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50760" indent="-493560">
              <a:spcBef>
                <a:spcPts val="601"/>
              </a:spcBef>
              <a:buClr>
                <a:srgbClr val="ffffff"/>
              </a:buClr>
              <a:buFont typeface="Arial"/>
              <a:buAutoNum type="alphaLcPeriod"/>
              <a:tabLst>
                <a:tab algn="l" pos="1146240"/>
                <a:tab algn="l" pos="2060640"/>
                <a:tab algn="l" pos="2975040"/>
                <a:tab algn="l" pos="3889440"/>
                <a:tab algn="l" pos="4803840"/>
                <a:tab algn="l" pos="5718240"/>
                <a:tab algn="l" pos="6632640"/>
                <a:tab algn="l" pos="7547040"/>
                <a:tab algn="l" pos="8461440"/>
                <a:tab algn="l" pos="9375840"/>
                <a:tab algn="l" pos="1029024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thol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50760" indent="-493560">
              <a:spcBef>
                <a:spcPts val="601"/>
              </a:spcBef>
              <a:buClr>
                <a:srgbClr val="ffffff"/>
              </a:buClr>
              <a:buFont typeface="Arial"/>
              <a:buAutoNum type="alphaLcPeriod"/>
              <a:tabLst>
                <a:tab algn="l" pos="1146240"/>
                <a:tab algn="l" pos="2060640"/>
                <a:tab algn="l" pos="2975040"/>
                <a:tab algn="l" pos="3889440"/>
                <a:tab algn="l" pos="4803840"/>
                <a:tab algn="l" pos="5718240"/>
                <a:tab algn="l" pos="6632640"/>
                <a:tab algn="l" pos="7547040"/>
                <a:tab algn="l" pos="8461440"/>
                <a:tab algn="l" pos="9375840"/>
                <a:tab algn="l" pos="1029024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althy fami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50760" indent="-493560">
              <a:spcBef>
                <a:spcPts val="601"/>
              </a:spcBef>
              <a:buClr>
                <a:srgbClr val="ffffff"/>
              </a:buClr>
              <a:buFont typeface="Arial"/>
              <a:buAutoNum type="alphaLcPeriod"/>
              <a:tabLst>
                <a:tab algn="l" pos="1146240"/>
                <a:tab algn="l" pos="2060640"/>
                <a:tab algn="l" pos="2975040"/>
                <a:tab algn="l" pos="3889440"/>
                <a:tab algn="l" pos="4803840"/>
                <a:tab algn="l" pos="5718240"/>
                <a:tab algn="l" pos="6632640"/>
                <a:tab algn="l" pos="7547040"/>
                <a:tab algn="l" pos="8461440"/>
                <a:tab algn="l" pos="9375840"/>
                <a:tab algn="l" pos="1029024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ivil Right’s Issu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325520" indent="-411120">
              <a:spcBef>
                <a:spcPts val="499"/>
              </a:spcBef>
              <a:buClr>
                <a:srgbClr val="ffffff"/>
              </a:buClr>
              <a:buFont typeface="Arial"/>
              <a:buAutoNum type="romanLcPeriod"/>
              <a:tabLst>
                <a:tab algn="l" pos="1146240"/>
                <a:tab algn="l" pos="2060640"/>
                <a:tab algn="l" pos="2975040"/>
                <a:tab algn="l" pos="3889440"/>
                <a:tab algn="l" pos="4803840"/>
                <a:tab algn="l" pos="5718240"/>
                <a:tab algn="l" pos="6632640"/>
                <a:tab algn="l" pos="7547040"/>
                <a:tab algn="l" pos="8461440"/>
                <a:tab algn="l" pos="9375840"/>
                <a:tab algn="l" pos="1029024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pports MLK J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25520" indent="-411120">
              <a:spcBef>
                <a:spcPts val="499"/>
              </a:spcBef>
              <a:buClr>
                <a:srgbClr val="ffffff"/>
              </a:buClr>
              <a:buFont typeface="Arial"/>
              <a:buAutoNum type="romanLcPeriod"/>
              <a:tabLst>
                <a:tab algn="l" pos="1146240"/>
                <a:tab algn="l" pos="2060640"/>
                <a:tab algn="l" pos="2975040"/>
                <a:tab algn="l" pos="3889440"/>
                <a:tab algn="l" pos="4803840"/>
                <a:tab algn="l" pos="5718240"/>
                <a:tab algn="l" pos="6632640"/>
                <a:tab algn="l" pos="7547040"/>
                <a:tab algn="l" pos="8461440"/>
                <a:tab algn="l" pos="9375840"/>
                <a:tab algn="l" pos="1029024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ood with/for the AA commun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5257800" y="1447920"/>
            <a:ext cx="3325680" cy="487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33520" y="304920"/>
            <a:ext cx="8001000" cy="6248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33520" y="347760"/>
            <a:ext cx="7924680" cy="628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Election of 1960, cont.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. Nix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. Republica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. Experienc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. Eisenhower’s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. Quak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. Poor fami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. Sweaty and nervou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685800" y="1676520"/>
            <a:ext cx="2984400" cy="4419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421000" y="304920"/>
            <a:ext cx="4251240" cy="632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85800" y="622440"/>
            <a:ext cx="7848720" cy="572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311040"/>
            <a:ext cx="9144000" cy="623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5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5T15:35:38Z</dcterms:created>
  <dc:creator>School District U46</dc:creator>
  <dc:description/>
  <dc:language>en-US</dc:language>
  <cp:lastModifiedBy>School District U46</cp:lastModifiedBy>
  <dcterms:modified xsi:type="dcterms:W3CDTF">2011-03-02T13:39:01Z</dcterms:modified>
  <cp:revision>11</cp:revision>
  <dc:subject/>
  <dc:title>17.1: The New Frontier</dc:title>
</cp:coreProperties>
</file>